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A44-A5E5-47C9-A976-E6FDF9D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4D7-87C1-4A98-8823-6202C6B2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51B-228B-489C-B731-BF5A056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DE-4F47-4554-B6AC-8D19DC6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FB2-7C46-49E5-9430-4B3F067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CAA-EEF4-4C3D-987A-E3B5745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B44-60AE-46C5-B7A3-0FFEE20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06C-959C-4A12-B81B-9532ABD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4A6-E5D0-4067-858B-35070B2A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1F4-8358-4636-A5D6-D732BB6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719-6CCC-4DD9-A9AE-57448C4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5A8-FF5B-44C3-9036-CA68FDE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BE74-32A2-4219-8573-127AAD781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440" y="1295280"/>
            <a:ext cx="433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6782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5812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55Z</dcterms:modified>
  <cp:revision>206</cp:revision>
  <dc:subject/>
  <dc:title>Slide 1</dc:title>
</cp:coreProperties>
</file>